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57"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4"/>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560"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1" name="PlaceHolder 5"/>
          <p:cNvSpPr>
            <a:spLocks noGrp="1"/>
          </p:cNvSpPr>
          <p:nvPr>
            <p:ph type="ftr" idx="35"/>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6"/>
          </p:nvPr>
        </p:nvSpPr>
        <p:spPr>
          <a:xfrm>
            <a:off x="4022640" y="8928000"/>
            <a:ext cx="30765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6BE322-C86C-4151-8C78-DFF89F61B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0274E6-51D1-4F98-B189-54AA2C7AB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200240" y="704880"/>
            <a:ext cx="4699080" cy="3524400"/>
          </a:xfrm>
          <a:prstGeom prst="rect">
            <a:avLst/>
          </a:prstGeom>
          <a:ln w="0">
            <a:noFill/>
          </a:ln>
        </p:spPr>
      </p:sp>
      <p:sp>
        <p:nvSpPr>
          <p:cNvPr id="59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3B6887-606F-4C96-9EB2-79334D6E1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028AD97-0434-4A09-BF96-67DA1F338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00240" y="704880"/>
            <a:ext cx="4699080" cy="3524400"/>
          </a:xfrm>
          <a:prstGeom prst="rect">
            <a:avLst/>
          </a:prstGeom>
          <a:ln w="0">
            <a:noFill/>
          </a:ln>
        </p:spPr>
      </p:sp>
      <p:sp>
        <p:nvSpPr>
          <p:cNvPr id="60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725DAD-C045-46E4-9E21-4617D62D2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00240" y="704880"/>
            <a:ext cx="4699080" cy="3524400"/>
          </a:xfrm>
          <a:prstGeom prst="rect">
            <a:avLst/>
          </a:prstGeom>
          <a:ln w="0">
            <a:noFill/>
          </a:ln>
        </p:spPr>
      </p:sp>
      <p:sp>
        <p:nvSpPr>
          <p:cNvPr id="61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FB24C6-D75C-46C9-86D4-BDB9E0935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DE51961-9072-4F36-8766-AC58DA2F6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200240" y="704880"/>
            <a:ext cx="4699080" cy="3524400"/>
          </a:xfrm>
          <a:prstGeom prst="rect">
            <a:avLst/>
          </a:prstGeom>
          <a:ln w="0">
            <a:noFill/>
          </a:ln>
        </p:spPr>
      </p:sp>
      <p:sp>
        <p:nvSpPr>
          <p:cNvPr id="59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38B4FD-BD47-400D-A623-05BF6EE42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8C37F0-0D0F-46D9-A321-10B946845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00240" y="704880"/>
            <a:ext cx="4699080" cy="3524400"/>
          </a:xfrm>
          <a:prstGeom prst="rect">
            <a:avLst/>
          </a:prstGeom>
          <a:ln w="0">
            <a:noFill/>
          </a:ln>
        </p:spPr>
      </p:sp>
      <p:sp>
        <p:nvSpPr>
          <p:cNvPr id="59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36C226-A39F-42C5-B2F4-01F87573B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62CC53-6AF6-4AC1-BC88-B7AEA0728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00240" y="704880"/>
            <a:ext cx="4699080" cy="3524400"/>
          </a:xfrm>
          <a:prstGeom prst="rect">
            <a:avLst/>
          </a:prstGeom>
          <a:ln w="0">
            <a:noFill/>
          </a:ln>
        </p:spPr>
      </p:sp>
      <p:sp>
        <p:nvSpPr>
          <p:cNvPr id="60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34DF1E2-6F90-473E-B9A0-7AEDACC7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B93F73-A4D1-42F9-8302-F0E5D7556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200240" y="704880"/>
            <a:ext cx="4699080" cy="3524400"/>
          </a:xfrm>
          <a:prstGeom prst="rect">
            <a:avLst/>
          </a:prstGeom>
          <a:ln w="0">
            <a:noFill/>
          </a:ln>
        </p:spPr>
      </p:sp>
      <p:sp>
        <p:nvSpPr>
          <p:cNvPr id="60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3E360A6-A5F3-4174-B495-105DA2115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8041F-8FA3-4DF1-9144-4A0A2B0E0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8D9E5-D56F-4174-9EA1-83F5E8566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B7EEF13-5553-4E15-92A3-0B5B712F03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C505E46-55BB-406F-B82A-D676E08CAB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57A7FD9-8299-44BD-80CF-B1B761EE0A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6BB7D9-4CA7-4025-898E-BC89E9536E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642F80A-630F-48C2-AAE3-92F81D0D54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114BE91-1EBC-4043-ABCB-F8C32495D1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D7C0B7-F0F7-4B7B-8BD3-3A9FA8BFD1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B36BD32-17CE-4B3D-91CA-006E9895CE4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64DC42E-0B8E-4DDC-8F4B-6F0A196DA45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2AF39DA-5B79-4434-8560-9B353AF655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DA1D7-5CD1-4E3C-A383-9686A871D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79C097-CB29-4B42-9B32-4F111CB09A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E4A7A3B-0672-4D01-AEF3-356BB9533F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5E9FAF0-98BF-4BC0-881F-A7AE474D1C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D4CE6D3-F8B8-4E6F-A97D-A7472A515C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4C7BFA1-B9F5-4248-A0E0-6F1737C281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86F38C5-6888-4210-9A70-E75B24A650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5E4C8D-9536-4834-925B-1A23B6249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BD558B-BEB1-43E0-9EE1-215A6C23B2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E12F02-61C5-4FA0-944F-D0D1E5604B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BD94217-B48B-4FF9-AD1A-A1A038E04D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85898-55C5-4B86-8D51-686849A23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011C077-BB04-4E08-8FBF-967F82C97F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946A9AA-AD63-4061-A080-7ABC151562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9E7B40D-3797-4207-824F-25FB19C042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C774626-3FD5-443F-885B-925CC30884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A6585EA-2952-46CF-BB53-C544B2D541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65B9DC9-B73A-4D7D-B12E-47BDB4069F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55B9465-62D4-4721-B16F-3FB6BE89A1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B3D1114-F67C-448D-AD14-2594C5E710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8B26EF4-F8A6-4ED1-8D48-F210568E53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4824215-3D6C-443E-907F-A5A308920A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7B0A2-0437-4B84-ABB8-520143AAB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B743213-3F77-436A-AF2A-892ED88E59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CC046E32-EF59-474F-A9AD-C5E4282D94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E3F40D79-1EAC-4B76-9F80-AC8ACB9B37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B18AA-D4E4-4E20-90B0-6B058391A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E3BCC-016C-47A9-9DE4-10AFF6370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A8150-3685-404D-8E3A-1F995BF2B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74A33-7B84-4EFB-97D7-A6F7C1D32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87156-1230-444C-A2D0-0D3B3A019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79073-E0ED-46D5-9826-42DF83DF3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2697-EAE1-4D8C-AB87-E5C8BAA9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E0054-EA35-4B54-ABAB-6BFFC71F5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67974-E209-4BAF-860B-56597090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D4B0A-FB3B-4C4F-B3A5-D8D39FBE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6269D-DBFD-4474-825E-AEB45B66C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52BFA-8415-44C4-8B85-92AAF6C96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B257C3-16B7-41B4-9031-ACBDE1B45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2D3EA-0631-4315-AD6C-16772C769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22C03-5864-43ED-A462-CF1B032DA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7859C-B75C-41DE-9313-6A71B53D7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CE566F-24BA-4570-BDB8-AE6C40A0C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43BD-476D-43DA-938C-ACAA4B46B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3B7D9-3B80-46D3-8611-31FF6B63E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D0047-1381-4A80-887F-D5ACCBD64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C5066-2898-4C41-9583-8D066628F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95294-1C17-4309-966D-2D5C5B3C5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1DBDB8-3E48-4056-A2CF-AE61BCDD6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AB87F-250E-42CB-BDF1-4FDE5F2C0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D6A874-2372-40AD-89FD-3861FFC4AC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D2AC922-F42B-43CD-A224-505A6CC5A6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61B125C-24C3-4635-8F2A-2DEA9F5DDD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E05E23A-3026-47C0-966B-131353AFCE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89F0-93A2-499D-BB21-B0040FE85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A1D106-E550-4E84-B7DB-D933FE8673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AC4560-3EDC-4FC0-BA15-DEE48E0D67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170E460-5E16-4987-8C47-4ACD49798A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DA44F5E-946B-4C0D-978C-75F07FCFC6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E59AAB-A391-4DF4-A0EB-B5C208C738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0ADBE0-E239-4A11-A83A-3851E85D02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D88E195-9272-4948-9AE0-DEAD428F29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934ED2A-C756-4CE4-82AF-68C0DF6CAB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7691C27-1389-4996-A9FB-2198B57660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01D30A-AFA3-4D9F-B34D-F950A60A04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B629-E529-44E6-B8F1-28FCC5013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EF24B-43DC-47D1-8A0E-1BA8F5596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622D1-DF55-4CE4-84C4-BA2968374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46D2D-7B33-4BDE-87AC-18088DA3E3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4A199-6B15-41B8-B49C-E64C73E44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8F6D3-4A03-41D0-B680-B1C893DE5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E2E33-BE0A-45A9-B3A3-601A4727D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78806-B02D-42AE-B6C4-2B47BC9A3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D6962-D16E-4BD4-93AB-78FC9BD92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273BE-83A9-4FEB-A380-93D49D8AA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486860-BF07-4469-9A97-67E6EB965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0F19-5195-48FA-89A4-ABDE12EA1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FAE678-ACE6-479B-9DC4-77E68EBBC7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4A0A16-CE17-4C40-B5D8-594D2C79C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A37463-B1C2-4CB6-8CCA-1CB09C4A4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69301-AE22-42A3-BCAC-E257A7FB3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494160-706D-42B8-8E15-6E33B32C7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1C20E-C701-4B65-AAA1-70784F62F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7774B5-A998-422D-BEE0-99A37E4E1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BE780-C685-4383-90DA-8BA27D8BB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E9287-D374-4764-AF86-BF2A83E0A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A0BCA-A05F-4AF2-AE56-84FACC7444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5097-CA02-4843-AB8D-31BD04A6A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8793F-9A74-4E1D-94DA-752F31DDE4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DB8566-45E0-45CA-84C4-988668D40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FA7067-FA84-43E3-B00B-744B123F39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349993-E7F2-4D25-973D-4E5C5FE720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33C06-7EA8-46C8-AD89-2A8D50F36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E1885-D2B6-4E23-8340-F711ED8AC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2BECC-150C-42A3-B232-762C6A1F7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B2AD43-C22B-4D24-A383-3AD90EB88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680917-7712-4DE4-BB50-E5EBED31C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45A28-22B3-404C-B023-FD6F98F8D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F455-FA80-47EF-9FDD-62BD74CF8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DDD4EC-FD4C-4C95-8FCD-3A8BC3594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E56FE5-5CE4-46B6-9946-F0246BDC60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E3EEC-CA4F-4557-AC88-819B50754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8A979A-7140-4153-A5A0-01D5D2491B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152E16-D86D-4C43-B74A-32EC50A37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7ED030-80FA-4845-AACD-8F6B5ED1C8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AE4A6-DF7B-4DAE-8DF3-4A23A09AD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982E3-084A-4488-8ABE-A368B496C0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0FD6B-577A-43B0-B822-6D0125DF87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895BA-C209-4B26-9F64-A8DAEF094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154A-9AD3-4394-99AC-65625BBC1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C2BF4-0F3C-4551-B7E2-466AE85B8B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EBECF-4363-4257-9906-7D5CC052BC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CE83B-3903-48F2-AC27-5836D683D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5D29E-9F3D-47C1-8008-3E67AEADC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CDD9F-CC2E-4242-A8F7-690D437B4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5EBCFF-C004-4BCF-8559-B9F640A9D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367575-747F-46E8-B465-2B69002EFD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F2F20D-B9FA-4E77-A53B-9B27AB179C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5DB1D4-FF87-4F97-9692-664052C372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463DBC7-35AC-4431-BC3E-32A9DE5E519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7706-E6B2-4456-97EE-4F5B3C8BF0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626C-1F93-42B1-9E06-0DF8407EEC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8497-B885-4F45-B4FA-5BB41EA2970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8152-7D23-4D7A-918E-6A19A18C534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A0C8-E569-4778-B8DE-583DF6E404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49D5-8967-447A-A4D2-9C5823517BA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1234-A7F2-4F8E-82F2-E9A705D7AF2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DE53-F803-4D6C-B5E3-BB51257ED4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770B-49AF-496A-81FF-427741BEF8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23F5-7689-48B1-B62A-CAE61035603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70C9-769E-410B-9A53-236E7F622CB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45600" y="3041640"/>
            <a:ext cx="8458200" cy="3276720"/>
          </a:xfrm>
          <a:prstGeom prst="rect">
            <a:avLst/>
          </a:prstGeom>
          <a:noFill/>
          <a:ln w="0">
            <a:noFill/>
          </a:ln>
        </p:spPr>
        <p:txBody>
          <a:bodyPr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6d7a"/>
                </a:solidFill>
                <a:latin typeface="Georgia"/>
              </a:rPr>
              <a:t>COMMON CORE STATE STANDARDS INITIATIVE</a:t>
            </a:r>
            <a:endParaRPr b="0" lang="en-US" sz="44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eorgia"/>
              </a:rPr>
              <a:t>March 2010</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564" name="Picture 5" descr="CCSSO_full_color.jpg"/>
          <p:cNvPicPr/>
          <p:nvPr/>
        </p:nvPicPr>
        <p:blipFill>
          <a:blip r:embed="rId1"/>
          <a:stretch/>
        </p:blipFill>
        <p:spPr>
          <a:xfrm>
            <a:off x="5257800" y="228600"/>
            <a:ext cx="3637080" cy="1938240"/>
          </a:xfrm>
          <a:prstGeom prst="rect">
            <a:avLst/>
          </a:prstGeom>
          <a:ln w="0">
            <a:noFill/>
          </a:ln>
        </p:spPr>
      </p:pic>
      <p:pic>
        <p:nvPicPr>
          <p:cNvPr id="565" name="Picture 2" descr="2009 color no dates"/>
          <p:cNvPicPr/>
          <p:nvPr/>
        </p:nvPicPr>
        <p:blipFill>
          <a:blip r:embed="rId2"/>
          <a:stretch/>
        </p:blipFill>
        <p:spPr>
          <a:xfrm>
            <a:off x="457200" y="628560"/>
            <a:ext cx="3878280" cy="135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360"/>
            <a:ext cx="8534160" cy="98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Adoption</a:t>
            </a:r>
            <a:endParaRPr b="0" lang="en-US" sz="3300" spc="-1" strike="noStrike">
              <a:solidFill>
                <a:srgbClr val="7b9899"/>
              </a:solidFill>
              <a:latin typeface="Georgia"/>
            </a:endParaRPr>
          </a:p>
        </p:txBody>
      </p:sp>
      <p:sp>
        <p:nvSpPr>
          <p:cNvPr id="583" name=""/>
          <p:cNvSpPr txBox="1"/>
          <p:nvPr/>
        </p:nvSpPr>
        <p:spPr>
          <a:xfrm>
            <a:off x="304560" y="1828440"/>
            <a:ext cx="8504280" cy="4267080"/>
          </a:xfrm>
          <a:prstGeom prst="rect">
            <a:avLst/>
          </a:prstGeom>
          <a:noFill/>
          <a:ln w="0">
            <a:noFill/>
          </a:ln>
        </p:spPr>
        <p:txBody>
          <a:bodyPr anchor="t">
            <a:normAutofit fontScale="94000"/>
          </a:bodyPr>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 adopts 100% of the common core K-12 standards in ELA and mathematics (word for word), with option of adding up to an additional 15% of standards on top of the core.</a:t>
            </a:r>
            <a:endParaRPr b="0" lang="en-US" sz="2800" spc="-1" strike="noStrike">
              <a:solidFill>
                <a:srgbClr val="000000"/>
              </a:solidFill>
              <a:latin typeface="Georg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state will have adopted when the standards authorizing body within the state has taken formal action to adopt and implement the common core.</a:t>
            </a: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s are responsible for demonstrating that they have adhered to this definition of adoption.</a:t>
            </a:r>
            <a:endParaRPr b="0" lang="en-US" sz="2800" spc="-1" strike="noStrike">
              <a:solidFill>
                <a:srgbClr val="000000"/>
              </a:solidFill>
              <a:latin typeface="Georg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Common Standards: The First Step</a:t>
            </a:r>
            <a:endParaRPr b="0" lang="en-US" sz="3600" spc="-1" strike="noStrike">
              <a:solidFill>
                <a:srgbClr val="7b9899"/>
              </a:solidFill>
              <a:latin typeface="Georgia"/>
            </a:endParaRPr>
          </a:p>
        </p:txBody>
      </p:sp>
      <p:sp>
        <p:nvSpPr>
          <p:cNvPr id="585" name=""/>
          <p:cNvSpPr txBox="1"/>
          <p:nvPr/>
        </p:nvSpPr>
        <p:spPr>
          <a:xfrm>
            <a:off x="-360" y="1517400"/>
            <a:ext cx="8915400" cy="51879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tandards are essential, but inadequate. Along with standards,</a:t>
            </a:r>
            <a:endParaRPr b="0" lang="en-US" sz="2800" spc="-1" strike="noStrike">
              <a:solidFill>
                <a:srgbClr val="000000"/>
              </a:solidFill>
              <a:latin typeface="Georgia"/>
            </a:endParaRPr>
          </a:p>
          <a:p>
            <a:pPr marL="272880" indent="-2728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ducators must be given </a:t>
            </a:r>
            <a:r>
              <a:rPr b="0" i="1" lang="en-US" sz="2000" spc="-1" strike="noStrike">
                <a:solidFill>
                  <a:srgbClr val="000000"/>
                </a:solidFill>
                <a:latin typeface="Georgia"/>
              </a:rPr>
              <a:t>resources</a:t>
            </a:r>
            <a:r>
              <a:rPr b="0" lang="en-US" sz="2000" spc="-1" strike="noStrike">
                <a:solidFill>
                  <a:srgbClr val="000000"/>
                </a:solidFill>
                <a:latin typeface="Georgia"/>
              </a:rPr>
              <a:t>, </a:t>
            </a:r>
            <a:r>
              <a:rPr b="0" i="1" lang="en-US" sz="2000" spc="-1" strike="noStrike">
                <a:solidFill>
                  <a:srgbClr val="000000"/>
                </a:solidFill>
                <a:latin typeface="Georgia"/>
              </a:rPr>
              <a:t>tools</a:t>
            </a:r>
            <a:r>
              <a:rPr b="0" lang="en-US" sz="2000" spc="-1" strike="noStrike">
                <a:solidFill>
                  <a:srgbClr val="000000"/>
                </a:solidFill>
                <a:latin typeface="Georgia"/>
              </a:rPr>
              <a:t>, and </a:t>
            </a:r>
            <a:r>
              <a:rPr b="0" i="1" lang="en-US" sz="2000" spc="-1" strike="noStrike">
                <a:solidFill>
                  <a:srgbClr val="000000"/>
                </a:solidFill>
                <a:latin typeface="Georgia"/>
              </a:rPr>
              <a:t>time</a:t>
            </a:r>
            <a:r>
              <a:rPr b="0" lang="en-US" sz="2000" spc="-1" strike="noStrike">
                <a:solidFill>
                  <a:srgbClr val="000000"/>
                </a:solidFill>
                <a:latin typeface="Georgia"/>
              </a:rPr>
              <a:t> to adjust classroom practice.</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Instructional materials </a:t>
            </a:r>
            <a:r>
              <a:rPr b="0" lang="en-US" sz="2000" spc="-1" strike="noStrike">
                <a:solidFill>
                  <a:srgbClr val="000000"/>
                </a:solidFill>
                <a:latin typeface="Georgia"/>
              </a:rPr>
              <a:t>needed that align to the standards.</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ssessments</a:t>
            </a:r>
            <a:r>
              <a:rPr b="0" lang="en-US" sz="2000" spc="-1" strike="noStrike">
                <a:solidFill>
                  <a:srgbClr val="000000"/>
                </a:solidFill>
                <a:latin typeface="Georgia"/>
              </a:rPr>
              <a:t> must be developed to measure student progress.</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ederal, state, and district </a:t>
            </a:r>
            <a:r>
              <a:rPr b="0" i="1" lang="en-US" sz="2000" spc="-1" strike="noStrike">
                <a:solidFill>
                  <a:srgbClr val="000000"/>
                </a:solidFill>
                <a:latin typeface="Georgia"/>
              </a:rPr>
              <a:t>policies</a:t>
            </a:r>
            <a:r>
              <a:rPr b="0" lang="en-US" sz="2000" spc="-1" strike="noStrike">
                <a:solidFill>
                  <a:srgbClr val="000000"/>
                </a:solidFill>
                <a:latin typeface="Georgia"/>
              </a:rPr>
              <a:t> will need to be reexamined to ensure they support alignment of the common core state standards with student achievement.</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More Information</a:t>
            </a:r>
            <a:endParaRPr b="0" lang="en-US" sz="3600" spc="-1" strike="noStrike">
              <a:solidFill>
                <a:srgbClr val="7b9899"/>
              </a:solidFill>
              <a:latin typeface="Georgia"/>
            </a:endParaRPr>
          </a:p>
        </p:txBody>
      </p:sp>
      <p:sp>
        <p:nvSpPr>
          <p:cNvPr id="587" name="PlaceHolder 2"/>
          <p:cNvSpPr>
            <a:spLocks noGrp="1"/>
          </p:cNvSpPr>
          <p:nvPr>
            <p:ph/>
          </p:nvPr>
        </p:nvSpPr>
        <p:spPr>
          <a:xfrm>
            <a:off x="151920" y="1828440"/>
            <a:ext cx="8991720" cy="43434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it www.corestandards.org </a:t>
            </a:r>
            <a:endParaRPr b="0" lang="en-US" sz="2800" spc="-1" strike="noStrike">
              <a:solidFill>
                <a:srgbClr val="000000"/>
              </a:solidFill>
              <a:latin typeface="Georg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gn up for Common Core State Standards updates: </a:t>
            </a:r>
            <a:endParaRPr b="0" lang="en-US" sz="2800" spc="-1" strike="noStrike">
              <a:solidFill>
                <a:srgbClr val="000000"/>
              </a:solidFill>
              <a:latin typeface="Georg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ww.ccsso.org/whats_new/newsletters/commoncoreupdates.html</a:t>
            </a:r>
            <a:endParaRPr b="0" lang="en-US" sz="2200" spc="-1" strike="noStrike">
              <a:solidFill>
                <a:srgbClr val="000000"/>
              </a:solidFill>
              <a:latin typeface="Georgia"/>
            </a:endParaRPr>
          </a:p>
          <a:p>
            <a:pPr marL="272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Overview of the Initiative</a:t>
            </a:r>
            <a:endParaRPr b="0" lang="en-US" sz="3600" spc="-1" strike="noStrike">
              <a:solidFill>
                <a:srgbClr val="7b9899"/>
              </a:solidFill>
              <a:latin typeface="Georgia"/>
            </a:endParaRPr>
          </a:p>
        </p:txBody>
      </p:sp>
      <p:sp>
        <p:nvSpPr>
          <p:cNvPr id="567" name=""/>
          <p:cNvSpPr txBox="1"/>
          <p:nvPr/>
        </p:nvSpPr>
        <p:spPr>
          <a:xfrm>
            <a:off x="533520" y="1828800"/>
            <a:ext cx="8610480" cy="4648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led and developed common core standards for K-12 in English/language arts and mathematic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cus on learning expectations for students, not how students get there.</a:t>
            </a:r>
            <a:endParaRPr b="0" lang="en-US" sz="3600" spc="-1" strike="noStrike">
              <a:solidFill>
                <a:srgbClr val="000000"/>
              </a:solidFill>
              <a:latin typeface="Georgi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Why Now?</a:t>
            </a:r>
            <a:endParaRPr b="0" lang="en-US" sz="3600" spc="-1" strike="noStrike">
              <a:solidFill>
                <a:srgbClr val="7b9899"/>
              </a:solidFill>
              <a:latin typeface="Georgia"/>
            </a:endParaRPr>
          </a:p>
        </p:txBody>
      </p:sp>
      <p:sp>
        <p:nvSpPr>
          <p:cNvPr id="569" name="PlaceHolder 2"/>
          <p:cNvSpPr>
            <a:spLocks noGrp="1"/>
          </p:cNvSpPr>
          <p:nvPr>
            <p:ph/>
          </p:nvPr>
        </p:nvSpPr>
        <p:spPr>
          <a:xfrm>
            <a:off x="304920" y="1981080"/>
            <a:ext cx="8534160" cy="38102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parate standards across states</a:t>
            </a:r>
            <a:endParaRPr b="0" lang="en-US" sz="3200" spc="-1" strike="noStrike">
              <a:solidFill>
                <a:srgbClr val="000000"/>
              </a:solidFill>
              <a:latin typeface="Georg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udent mobility</a:t>
            </a:r>
            <a:endParaRPr b="0" lang="en-US" sz="3200" spc="-1" strike="noStrike">
              <a:solidFill>
                <a:srgbClr val="000000"/>
              </a:solidFill>
              <a:latin typeface="Georg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lobal competition</a:t>
            </a:r>
            <a:endParaRPr b="0" lang="en-US" sz="3200" spc="-1" strike="noStrike">
              <a:solidFill>
                <a:srgbClr val="000000"/>
              </a:solidFill>
              <a:latin typeface="Georg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day’s jobs require different skills</a:t>
            </a:r>
            <a:endParaRPr b="0" lang="en-US" sz="3200" spc="-1" strike="noStrike">
              <a:solidFill>
                <a:srgbClr val="000000"/>
              </a:solidFill>
              <a:latin typeface="Georgia"/>
            </a:endParaRPr>
          </a:p>
          <a:p>
            <a:pPr marL="27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28600"/>
            <a:ext cx="87631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y is This Important for </a:t>
            </a:r>
            <a:br>
              <a:rPr sz="2800"/>
            </a:br>
            <a:r>
              <a:rPr b="1" lang="en-US" sz="2800" spc="-1" strike="noStrike">
                <a:solidFill>
                  <a:srgbClr val="7b9899"/>
                </a:solidFill>
                <a:latin typeface="Georgia"/>
              </a:rPr>
              <a:t>Students, Teachers, and Parents?</a:t>
            </a:r>
            <a:endParaRPr b="0" lang="en-US" sz="2800" spc="-1" strike="noStrike">
              <a:solidFill>
                <a:srgbClr val="7b9899"/>
              </a:solidFill>
              <a:latin typeface="Georgia"/>
            </a:endParaRPr>
          </a:p>
        </p:txBody>
      </p:sp>
      <p:sp>
        <p:nvSpPr>
          <p:cNvPr id="571" name="PlaceHolder 2"/>
          <p:cNvSpPr>
            <a:spLocks noGrp="1"/>
          </p:cNvSpPr>
          <p:nvPr>
            <p:ph/>
          </p:nvPr>
        </p:nvSpPr>
        <p:spPr>
          <a:xfrm>
            <a:off x="380520" y="1828800"/>
            <a:ext cx="8504280" cy="4114800"/>
          </a:xfrm>
          <a:prstGeom prst="rect">
            <a:avLst/>
          </a:prstGeom>
          <a:noFill/>
          <a:ln w="0">
            <a:noFill/>
          </a:ln>
        </p:spPr>
        <p:txBody>
          <a:bodyPr anchor="t">
            <a:normAutofit/>
          </a:bodyPr>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epares students with the knowledge and skills they need to succeed in </a:t>
            </a:r>
            <a:r>
              <a:rPr b="1" lang="en-US" sz="3200" spc="-1" strike="noStrike">
                <a:solidFill>
                  <a:srgbClr val="000000"/>
                </a:solidFill>
                <a:latin typeface="Georgia"/>
              </a:rPr>
              <a:t>college and work</a:t>
            </a:r>
            <a:endParaRPr b="0" lang="en-US" sz="3200" spc="-1" strike="noStrike">
              <a:solidFill>
                <a:srgbClr val="000000"/>
              </a:solidFill>
              <a:latin typeface="Georgia"/>
            </a:endParaRPr>
          </a:p>
          <a:p>
            <a:pPr marL="272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nsures </a:t>
            </a:r>
            <a:r>
              <a:rPr b="1" lang="en-US" sz="3200" spc="-1" strike="noStrike">
                <a:solidFill>
                  <a:srgbClr val="000000"/>
                </a:solidFill>
                <a:latin typeface="Georgia"/>
              </a:rPr>
              <a:t>consistent expectations </a:t>
            </a:r>
            <a:r>
              <a:rPr b="0" lang="en-US" sz="3200" spc="-1" strike="noStrike">
                <a:solidFill>
                  <a:srgbClr val="000000"/>
                </a:solidFill>
                <a:latin typeface="Georgia"/>
              </a:rPr>
              <a:t>regardless of a student’s zip code </a:t>
            </a:r>
            <a:endParaRPr b="0" lang="en-US" sz="3200" spc="-1" strike="noStrike">
              <a:solidFill>
                <a:srgbClr val="000000"/>
              </a:solidFill>
              <a:latin typeface="Georgia"/>
            </a:endParaRPr>
          </a:p>
          <a:p>
            <a:pPr marL="272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vides educators, parents, and students with </a:t>
            </a:r>
            <a:r>
              <a:rPr b="1" lang="en-US" sz="3200" spc="-1" strike="noStrike">
                <a:solidFill>
                  <a:srgbClr val="000000"/>
                </a:solidFill>
                <a:latin typeface="Georgia"/>
              </a:rPr>
              <a:t>clear, focused guideposts</a:t>
            </a:r>
            <a:endParaRPr b="0" lang="en-US" sz="3200" spc="-1" strike="noStrike">
              <a:solidFill>
                <a:srgbClr val="000000"/>
              </a:solidFill>
              <a:latin typeface="Georgia"/>
            </a:endParaRPr>
          </a:p>
          <a:p>
            <a:pPr marL="2728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79280" y="228600"/>
            <a:ext cx="87631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at Momentum is There for the Initiative?</a:t>
            </a:r>
            <a:endParaRPr b="0" lang="en-US" sz="2800" spc="-1" strike="noStrike">
              <a:solidFill>
                <a:srgbClr val="7b9899"/>
              </a:solidFill>
              <a:latin typeface="Georgia"/>
            </a:endParaRPr>
          </a:p>
        </p:txBody>
      </p:sp>
      <p:sp>
        <p:nvSpPr>
          <p:cNvPr id="573" name="PlaceHolder 2"/>
          <p:cNvSpPr>
            <a:spLocks noGrp="1"/>
          </p:cNvSpPr>
          <p:nvPr>
            <p:ph/>
          </p:nvPr>
        </p:nvSpPr>
        <p:spPr>
          <a:xfrm>
            <a:off x="304920" y="2057400"/>
            <a:ext cx="8229600" cy="414504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	</a:t>
            </a:r>
            <a:r>
              <a:rPr b="0" lang="en-US" sz="4400" spc="-1" strike="noStrike">
                <a:solidFill>
                  <a:srgbClr val="000000"/>
                </a:solidFill>
                <a:latin typeface="Georgia"/>
              </a:rPr>
              <a:t>48 states, the District of Columbia, and two territories have signed on to the Common Core State Standards Initiative</a:t>
            </a:r>
            <a:endParaRPr b="0" lang="en-US" sz="4400" spc="-1" strike="noStrike">
              <a:solidFill>
                <a:srgbClr val="000000"/>
              </a:solidFill>
              <a:latin typeface="Georgia"/>
            </a:endParaRPr>
          </a:p>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22824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Criteria for the Standards</a:t>
            </a:r>
            <a:endParaRPr b="0" lang="en-US" sz="3600" spc="-1" strike="noStrike">
              <a:solidFill>
                <a:srgbClr val="7b9899"/>
              </a:solidFill>
              <a:latin typeface="Georgia"/>
            </a:endParaRPr>
          </a:p>
        </p:txBody>
      </p:sp>
      <p:sp>
        <p:nvSpPr>
          <p:cNvPr id="575" name="PlaceHolder 2"/>
          <p:cNvSpPr>
            <a:spLocks noGrp="1"/>
          </p:cNvSpPr>
          <p:nvPr>
            <p:ph/>
          </p:nvPr>
        </p:nvSpPr>
        <p:spPr>
          <a:xfrm>
            <a:off x="318600" y="1638360"/>
            <a:ext cx="8504280" cy="5029200"/>
          </a:xfrm>
          <a:prstGeom prst="rect">
            <a:avLst/>
          </a:prstGeom>
          <a:noFill/>
          <a:ln w="0">
            <a:noFill/>
          </a:ln>
        </p:spPr>
        <p:txBody>
          <a:bodyPr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ewer, clearer, and higher</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igned with college and work expectation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clude rigorous content and application of knowledge through high-order skill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Build upon strengths and lessons of current state standard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rnationally benchmarked, so that all students are prepared to succeed in our global economy and society</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Based on evidence and research</a:t>
            </a:r>
            <a:endParaRPr b="0" lang="en-US" sz="2600" spc="-1" strike="noStrike">
              <a:solidFill>
                <a:srgbClr val="000000"/>
              </a:solidFill>
              <a:latin typeface="Georgia"/>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tandards Development Process</a:t>
            </a:r>
            <a:endParaRPr b="0" lang="en-US" sz="3200" spc="-1" strike="noStrike">
              <a:solidFill>
                <a:srgbClr val="7b9899"/>
              </a:solidFill>
              <a:latin typeface="Georgia"/>
            </a:endParaRPr>
          </a:p>
        </p:txBody>
      </p:sp>
      <p:sp>
        <p:nvSpPr>
          <p:cNvPr id="577" name=""/>
          <p:cNvSpPr txBox="1"/>
          <p:nvPr/>
        </p:nvSpPr>
        <p:spPr>
          <a:xfrm>
            <a:off x="304920" y="1600200"/>
            <a:ext cx="8153280" cy="4495680"/>
          </a:xfrm>
          <a:prstGeom prst="rect">
            <a:avLst/>
          </a:prstGeom>
          <a:noFill/>
          <a:ln w="0">
            <a:noFill/>
          </a:ln>
        </p:spPr>
        <p:txBody>
          <a:bodyPr anchor="t">
            <a:normAutofit/>
          </a:bodyPr>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lege and career readiness standards developed in summer 2009</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ed on the college and career readiness standards, K-12 learning progressions developed</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ple rounds of feedback from states, teachers, and feedback group and validation committee.</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oups representing English language learners and students with disabilities were instrumental in developing the ELL and students with disabilities statements in the introduction to the standards.</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comment period on K-12 standards ends April 2. </a:t>
            </a:r>
            <a:endParaRPr b="0" lang="en-US" sz="2400" spc="-1" strike="noStrike">
              <a:solidFill>
                <a:srgbClr val="000000"/>
              </a:solidFill>
              <a:latin typeface="Georgia"/>
            </a:endParaRPr>
          </a:p>
          <a:p>
            <a:pPr marL="466560" indent="-285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66560" indent="-285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ELA Standards Advances</a:t>
            </a:r>
            <a:endParaRPr b="0" lang="en-US" sz="3200" spc="-1" strike="noStrike">
              <a:solidFill>
                <a:srgbClr val="7b9899"/>
              </a:solidFill>
              <a:latin typeface="Georgia"/>
            </a:endParaRPr>
          </a:p>
        </p:txBody>
      </p:sp>
      <p:sp>
        <p:nvSpPr>
          <p:cNvPr id="579" name=""/>
          <p:cNvSpPr txBox="1"/>
          <p:nvPr/>
        </p:nvSpPr>
        <p:spPr>
          <a:xfrm>
            <a:off x="380880" y="1600200"/>
            <a:ext cx="8305920" cy="5105520"/>
          </a:xfrm>
          <a:prstGeom prst="rect">
            <a:avLst/>
          </a:prstGeom>
          <a:noFill/>
          <a:ln w="0">
            <a:noFill/>
          </a:ln>
        </p:spPr>
        <p:txBody>
          <a:bodyPr anchor="t">
            <a:normAutofit/>
          </a:bodyPr>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standards devote as much attention on what students read, in terms of  complexity, quality, and range, as they do on how students read. As students progress through the grades, they must both develop their comprehension skills and apply them to increasingly complex tex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progression of the standards is based on evidence and anchored in the college and career readiness (CCR) standards. The CCR standards define broad competencies and reading, writing, speaking, listening, and language while the K-12 standards lend further specificity by defining a developmentally appropriate progression of skills and understanding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In order to prepare students for the challenges of college and career texts, the standards require a rich reading of literature as well as extensive reading in science, history/social studies, and other disciplines.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Students are required to learn certain critical content, including classic myths and stories from around the world, America’s Founding Documents, and foundational American literatur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standards also require that students systematically develop knowledge of literature as well as knowledge in other disciplines through reading, writing, speaking, and listening in history/social studies and science</a:t>
            </a:r>
            <a:endParaRPr b="0" lang="en-US" sz="1600" spc="-1" strike="noStrike">
              <a:solidFill>
                <a:srgbClr val="000000"/>
              </a:solidFill>
              <a:latin typeface="Georg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Math Standards Advances</a:t>
            </a:r>
            <a:endParaRPr b="0" lang="en-US" sz="3200" spc="-1" strike="noStrike">
              <a:solidFill>
                <a:srgbClr val="7b9899"/>
              </a:solidFill>
              <a:latin typeface="Georgia"/>
            </a:endParaRPr>
          </a:p>
        </p:txBody>
      </p:sp>
      <p:sp>
        <p:nvSpPr>
          <p:cNvPr id="581" name=""/>
          <p:cNvSpPr txBox="1"/>
          <p:nvPr/>
        </p:nvSpPr>
        <p:spPr>
          <a:xfrm>
            <a:off x="304920" y="1294920"/>
            <a:ext cx="8686800" cy="4800600"/>
          </a:xfrm>
          <a:prstGeom prst="rect">
            <a:avLst/>
          </a:prstGeom>
          <a:noFill/>
          <a:ln w="0">
            <a:noFill/>
          </a:ln>
        </p:spPr>
        <p:txBody>
          <a:bodyPr anchor="t">
            <a:normAutofit fontScale="92000"/>
          </a:bodyPr>
          <a:p>
            <a:pPr marL="250920" indent="-25092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s draft focuses on core conceptual understandings and procedures starting in the early grades. This enables teachers to take the time needed to teach core concepts and procedures well and give students the opportunity to master them.</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grades K-5 students gain a solid foundation in whole numbers, addition, subtraction, multiplication, division, fractions, and decimals.  For example, students in Kindergarten focus on the number core (learning how numbers correspond to quantities and learning how to put together and take apart numbers) in order to prepare them for addition and subtraction.</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the middle grades, students build upon the strong foundation in grades K-5 through hands on learning in geometry, algebra, probability, and statistics.</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e high school standards call on students to practice applying mathematical ways of thinking to real world issues and challenges and emphasize mathematical modeling. </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8:26:18Z</dcterms:created>
  <dc:creator>John Tanner</dc:creator>
  <dc:description/>
  <dc:language>en-US</dc:language>
  <cp:lastModifiedBy>jomear</cp:lastModifiedBy>
  <dcterms:modified xsi:type="dcterms:W3CDTF">2010-06-18T21:14:32Z</dcterms:modified>
  <cp:revision>20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FFDA35C05573214090F9F4460B59C365</vt:lpwstr>
  </property>
  <property fmtid="{D5CDD505-2E9C-101B-9397-08002B2CF9AE}" pid="7" name="Document Type">
    <vt:lpwstr>Designs</vt:lpwstr>
  </property>
  <property fmtid="{D5CDD505-2E9C-101B-9397-08002B2CF9AE}" pid="8" name="Folders">
    <vt:lpwstr>31</vt:lpwstr>
  </property>
  <property fmtid="{D5CDD505-2E9C-101B-9397-08002B2CF9AE}" pid="9" name="Keyword">
    <vt:lpwstr/>
  </property>
  <property fmtid="{D5CDD505-2E9C-101B-9397-08002B2CF9AE}" pid="10" name="Keywords">
    <vt:lpwstr/>
  </property>
  <property fmtid="{D5CDD505-2E9C-101B-9397-08002B2CF9AE}" pid="11" name="Slides">
    <vt:lpwstr>13</vt:lpwstr>
  </property>
  <property fmtid="{D5CDD505-2E9C-101B-9397-08002B2CF9AE}" pid="12" name="Subfolder">
    <vt:lpwstr>50</vt:lpwstr>
  </property>
  <property fmtid="{D5CDD505-2E9C-101B-9397-08002B2CF9AE}" pid="13" name="Subject">
    <vt:lpwstr/>
  </property>
  <property fmtid="{D5CDD505-2E9C-101B-9397-08002B2CF9AE}" pid="14" name="_Author">
    <vt:lpwstr>John Tanner</vt:lpwstr>
  </property>
  <property fmtid="{D5CDD505-2E9C-101B-9397-08002B2CF9AE}" pid="15" name="_Category">
    <vt:lpwstr/>
  </property>
  <property fmtid="{D5CDD505-2E9C-101B-9397-08002B2CF9AE}" pid="16" name="_Comments">
    <vt:lpwstr/>
  </property>
</Properties>
</file>